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D940-9DBA-4F13-BA09-6237ABFC5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C4B8-1C4C-409C-8578-F9EF48C9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5062-42B6-4541-8C44-06A307651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FB0B-A090-47EE-9323-B5F3E5651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8810-642B-40C5-A857-2BAB0439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FB5A-6788-442D-927D-DB4B50F7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E9D1-DA69-4035-99F9-25756980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C3AA-0D48-4B47-B2A8-6FF65F93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3F7F-7A73-4D40-9A54-59955B99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06F8-F69B-431A-AB67-16B0F0D0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69B0-7768-4922-8DBA-995313FA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4995-1E8E-4586-AEE0-3AA52C99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7E6A-87DA-4D8C-8254-F28BAA9CE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L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love, one he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's get together and feel all righ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love, one he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Give thanks and praise to the Lord and I will feel all right."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Give thanks and praise to the Lord and I will feel all right."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4T05:39:36Z</dcterms:created>
  <dc:creator>Peter Rivezzo</dc:creator>
  <dc:description/>
  <dc:language>en-US</dc:language>
  <cp:lastModifiedBy>Peter Rivezzo</cp:lastModifiedBy>
  <dcterms:modified xsi:type="dcterms:W3CDTF">2011-04-24T05:39:40Z</dcterms:modified>
  <cp:revision>1</cp:revision>
  <dc:subject/>
  <dc:title>One Love</dc:title>
</cp:coreProperties>
</file>